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070-ED98-4499-A0AC-69C50661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A322-53BA-4C8A-B1B1-FBE2474E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5A1-AA9C-465E-B20B-5C379B93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3F9-3D15-486E-AFD5-30FA31F2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BC5-98A0-4B1D-B38A-044D9EC1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EC4B-7F28-4EA5-AC76-D02FDA4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DA6-9D9E-4EC1-AE1B-9EDD945D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A0B-36B6-4FF9-A686-8C3242D4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4494-172F-411C-89F7-B0D49415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C604-66DB-4875-981C-59B8EB7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E7E-58B7-4CEA-AFA2-9444AF11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729-6B5D-4A2D-AB52-036197B7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156b13">
                <a:alpha val="0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A1A1-1B2C-4203-9745-11981D3C8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Goals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t Peer Feedback on Essential Qs and Culminating Projects, Sketch Outline of Unit Pl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ing for the Gallery Walk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Following on Your Pos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Essential Question(s) at thi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ef description of Culminating Project/Summative Performance Ta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/Specific Feedback You Are Look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s you consider the posters, use the following concepts to guide your feedback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mportance of Transf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nowledge and Skills Necessary for Completing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red Understan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on of Reading, Writing and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idence of Understa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ual and Procedural Go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xt-to-Text, Text-to-Self, Text-to-World Conn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necting to Essential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ing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ge 2 in Planning Proce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evidence will show under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--will the knowledge and skills they perform transfer to new and authentic situations in their liv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ence Concept—doing what the experts 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forms for demonstrating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brics—understanding and performance (products and proce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nit Plan Outline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Brainstorming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ep One:  Essential Question(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is Funny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n Humor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ep Two:  Final Project and Rubr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“Skills and Understandings Necessary for Completing Task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ptual and procedural tools necessary for completing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ion to Essential Q(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“Summative Assessment/Proof Positive of Learning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es about Rubric Cri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at Least UNDERSTANDING and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Outlin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Three:  Order Texts an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p Four:  Build in Supp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Q Trac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hor Chart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yer Ch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Graphic Organiz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Outlin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ep Five:  Brainstorm Gateway Activ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efore, During and After Rea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ter, Navigate, Refl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nciples of Sequenc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RETO (p. 20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Facets (p. 22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to Directly Instruct and When to Guide (p. 24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- and Post-Refle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d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ative Assessment (p. 248-2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22:28:54Z</dcterms:created>
  <dc:creator>Phil Bear</dc:creator>
  <dc:description/>
  <dc:language>en-US</dc:language>
  <cp:lastModifiedBy>Phil Bear</cp:lastModifiedBy>
  <dcterms:modified xsi:type="dcterms:W3CDTF">2011-03-03T22:50:29Z</dcterms:modified>
  <cp:revision>3</cp:revision>
  <dc:subject/>
  <dc:title>Our Goals for Today: Get Peer Feedback on Essential Qs and Culminating Projects, Sketch Outline of Unit Plan</dc:title>
</cp:coreProperties>
</file>